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AAA56-2904-4FE1-B74A-FF4744292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99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06008-6F9B-41C2-8F19-7995DF5F8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99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20F8A-2966-4CC4-AADC-F2C1C4AFE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99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EE826-C59C-4AF5-B39A-63E240E1C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A3A2E-4384-41AE-BBA1-1326EF2F0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99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589D2-4496-45D4-AC2A-D38FD1F68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99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D7419-B8D0-4DE1-8526-0B35E45E6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99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096E2-2EC0-46AE-A487-D3B7DF986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99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8C26F-9766-4B8C-B68E-5B88F9EAF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31B1E-ABFF-464E-815B-9DB0028B5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99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EA66B-3666-421E-AFFE-C85D0A7C4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99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42655-5269-4CC3-948D-CE5B7FD57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99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AD338-872A-4D7E-8D94-75E81E118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99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B2C9B-D9F7-4317-96E0-1165086E2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99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D4086-77BD-44BF-AA65-E432984C4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99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39F0F-3F7D-46B5-BEF3-3EC517711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99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B0D2B-9880-4EDC-8E9A-18FFE2E89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99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784B2-0ADA-49A8-83E3-3CD53DE65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99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955F5-BB3D-489A-A725-8227F27F3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99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E0600-57C1-488C-994D-BD51E30FB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6FB72-E039-4C2C-A0F8-05FF21C87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99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FDF7F-D7D0-481F-814C-512929EF7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99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93B85-6B03-4107-9572-0C35E8339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99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3D7E9-3157-4EEC-8DFB-6B955DCAF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ccff99"/>
                </a:gs>
                <a:gs pos="100000">
                  <a:srgbClr val="5c734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99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cc99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ff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ff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EA8D7-BB29-4175-86B5-E0737F7B315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F8794-0034-4C2F-8217-C04F223C626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ccff99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99ff"/>
                </a:solidFill>
                <a:latin typeface="Monotype Corsiva"/>
              </a:rPr>
              <a:t>ALLAVI   YADAV (INDIA)      </a:t>
            </a:r>
            <a:endParaRPr b="0" lang="en-US" sz="3600" spc="-1" strike="noStrike">
              <a:solidFill>
                <a:srgbClr val="cc99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99ff"/>
                </a:solidFill>
                <a:latin typeface="Monotype Corsiva"/>
              </a:rPr>
              <a:t>PALLAVI YADAV   ( INDIA)</a:t>
            </a:r>
            <a:br>
              <a:rPr sz="3600"/>
            </a:br>
            <a:endParaRPr b="0" lang="en-US" sz="3600" spc="-1" strike="noStrike">
              <a:solidFill>
                <a:srgbClr val="cc99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362320" y="10663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Monotype Corsiva"/>
              </a:rPr>
              <a:t>ST. MARK’S GIRLS SR. SEC. SCH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Monotype Corsiva"/>
              </a:rPr>
              <a:t>HOBBIES-  TRAVELLING, DANCING,READ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Monotype Corsiva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Monotype Corsiva"/>
              </a:rPr>
              <a:t>FAVOURITE::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Monotype Corsiva"/>
              </a:rPr>
              <a:t>SUBJECTS-  HISTORY , SCIENCE  &amp;   ENGLIS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Monotype Corsiva"/>
              </a:rPr>
              <a:t>MONUMENT--  THE  TAJ  MAH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Monotype Corsiva"/>
              </a:rPr>
              <a:t>BIRTH PLACE- DELH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7ca02"/>
                </a:solidFill>
                <a:latin typeface="Monotype Corsiva"/>
              </a:rPr>
              <a:t>I AM  GLAD TO BE A PART OF THIS  PROJECT!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0" y="1828800"/>
            <a:ext cx="2133720" cy="327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99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2T14:02:36Z</dcterms:created>
  <dc:creator>MUKESH</dc:creator>
  <dc:description/>
  <dc:language>en-US</dc:language>
  <cp:lastModifiedBy>MUKESH</cp:lastModifiedBy>
  <dcterms:modified xsi:type="dcterms:W3CDTF">2010-02-02T14:32:59Z</dcterms:modified>
  <cp:revision>2</cp:revision>
  <dc:subject/>
  <dc:title>PALLAVI   YADAV (INDIA)      </dc:title>
</cp:coreProperties>
</file>